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3E4-684E-4D99-BAED-99A06E28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CDA-305B-4B40-9226-FFB7D39C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14478-8116-49AD-AFCD-78D408B4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17999-1D12-4657-9BA3-A5FCCAD1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FA951-BBE7-4184-B0B6-597E094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6A515-E18E-417D-BFA0-4078E45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EFE40-4D79-425B-BAE0-FAE92F8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E9F8C-9044-426E-9FD1-4BF31C7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D1554-6268-4315-A03D-E252742D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75A89-C0CB-4DBA-9923-DAEF832C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A968-0424-48A9-81F4-38D5D6EA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2BBFA-32D0-496A-A5C0-DC20F05E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12B-40A7-4DFC-96FA-829ECA66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DCD95-22E6-4D31-AC7B-6480C867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AFFE3-E588-4058-BD89-70A0E49D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B3EF4-572A-4677-81A8-086162A1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FB1D8-C6D0-4453-A8C9-A0C7C8AB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5F033-A3E6-4DC8-AA5A-8D2A9E36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E5A78-9F5F-4991-8DDA-F5F226F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3CE05-D2B9-408B-874C-133F9CA8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4C315-BAD2-47E9-9905-D70D489D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B6331-CB70-4815-89FC-A687B37C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9C2E-237E-4A3F-B4BD-164FFF51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0F5-A8CA-46A3-9F69-F1841E4B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4C46D-2D9B-426C-A6BA-9DEFABF9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8FAB1-B1FE-4CCF-BBF5-15CD5509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B9F37-70CA-42B2-AD44-D431B79A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F48B8-9B5E-42CF-84E5-382AC6D4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96C5A-38F8-4F85-8A40-559E7CCF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09D28-57BB-4197-A4EC-8A9FB8D2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9FD4C-E693-4F4D-BEAE-F150DA4F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2EBE6-F188-464D-96E6-68B54E2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836F-AF5C-4159-BE42-C83B388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A9F9A-7D9C-4B3C-94B3-5FB09DE8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02A5-4B79-4F71-90BF-B3FA298D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6B604-DB53-4A32-B7B2-F8515BF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F3CF3-B439-4C94-A0E1-DBC46CBA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6702A-2C29-4D87-9950-64CE12FF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EE00B-DC93-4B64-90E4-A5778E6D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F95BF-954D-4029-8403-C73B6A8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1C584-8208-40C0-9563-1DD3E95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AC73F-8600-438F-8B1A-ECA20B9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B8B7A-304E-4111-A6BB-CA9ED627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BAC89-5E75-4CA6-B905-922AF2EC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96281-11CB-455C-8540-4CE770F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5AAE-7F92-4B5E-8353-4DCB02E0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F44B6-FC92-4CBE-80FC-E57A2465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5E938-F7FB-4D2D-958C-14F27ED4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068A8-7884-49A6-B79B-E0A7CB1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A331D-F0C6-4A17-BE06-45866F70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FA494-8E62-4392-AB30-57083C09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9292C-B01B-4026-8FFC-AA1F8A70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55EC7-8A9E-4486-A26E-574B2D83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91774-08B9-444F-9F2F-69DE9DF8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91AE3-94CF-4E8D-8BB3-30A14CDD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96447-4394-4E02-BECD-C9E7879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8DF8-F8C9-4455-87F4-8372ACAE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7FBDE-E9A0-44FD-BAB4-4454E951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44F9E-0816-45BC-A69D-E4B42FF7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28771-0222-4A0B-A00F-7FE0BA34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3EDB0-47A8-42B5-B797-BF68945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3CCC9-F911-4F91-8FDA-DB355810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24C7C-BC7F-4EED-9905-F589BD95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8AE1F-4FEC-4CB5-8D4D-28582B13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30E1D-C5BD-49E4-AEF6-970E0488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04717-D921-4789-BA3B-F0127DA3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A66E7-D43C-4FDB-B507-9F6A38A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0091-E4D2-472D-BC98-BD24256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9A7C0-E340-42F6-B21C-3A3BCC3B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BD8C0-7547-4D77-A2F5-3A093AE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A237B-E0AD-4DCE-890E-E7E9A151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C3BB4-7AD4-4439-AC5D-7A0D7B2C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B2E6D-6304-4EC6-AE5E-76100757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E2855-2C2A-422E-82DF-DCCB27E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12977-28F2-43A0-A827-AADBF62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C07C6-3532-4792-ACCC-71335FD3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735B0-7087-4094-962C-2F7EC1A8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76DCC-3846-4047-ADE7-38019775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902E-ED14-4CAD-91DB-3A09CF93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B05A1-AD35-4F1C-A6CC-6C38EADC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D4163-A87B-4B3E-A4D6-7A06B58C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82213-5DE3-45A6-A428-C5C4E80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CEF76-47C0-42F2-A74E-AD68DF91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DFFD7-EE1A-4C2B-927B-42185D1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E7A33-EB35-434C-B46D-28DE0DA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31F04-CC56-481D-88F1-80E7A61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BFDC3-61B9-410E-86A6-45A327C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007D2-FFDF-449D-B511-7C8CB655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220A3-7564-42A8-B405-7F91E0D8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327D-5BEB-450E-BE7E-45E52717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F17CA-D9D9-4373-8010-29E5DA0C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24DCF-F136-498A-AA52-F67E634C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7978E-3812-455A-B622-FE1ACEAF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70811-8312-47D8-ACD5-A77F56C4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85314-C45A-4C64-BA2A-9CD0ADED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3CC53-57EA-40D7-8C6E-FC184E06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A2833-16DA-4E62-8A27-B0FB8298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7BC9F-04CE-4CB8-B136-BF3E0F1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3ED67-BE6E-4229-BE41-90C77E5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FDB81-67D1-4D3D-B8AD-1B7CBF6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414F-542C-4195-90C7-D43C9BC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3AE0F-578C-493F-80C7-CC53647B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2DF08-5DE5-407D-AD96-BC008D9C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34AA5-CF58-4ACB-8630-A4F9F362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8ECE5-85A6-439D-B053-209AD5F8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3250F-D29E-4061-8215-C9A51F3A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9B060-AE40-4E1A-8F32-3066E1B0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30592-BDC8-4C08-87F4-C4B9820A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F1D94-F580-48CD-AC50-9DA2909E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9B933-E872-4813-9DD7-E161C8C3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D93501-9D52-4E6E-8867-32878175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8C0-E427-4C44-8A68-374351AA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894A-ADB9-4456-AEAF-B2FE7E22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A2582-0917-4B85-9ACB-1B6402F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5C82F-0ABA-4468-9D6C-4BE73D4E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2D32E-118D-4810-AD1C-B15D5304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18455A-8716-42B4-82FD-98CB5115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12E37C-9700-4431-B183-7EFB91DA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40058-D47B-442F-8EAE-86AF9C8D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FE83D-2AE7-43EB-A4EB-7E6FEFF0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CDFA1-FF37-4DBF-9106-77A42531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FAE7E-025A-4958-A6D8-B211B0A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4A641-A384-4BD4-A799-4465B58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4D41-5AB2-49F0-BCDD-01B2F25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8A2AA-ECB4-4822-BB69-F325DE5B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A9E94-F2D7-436D-8747-27804B2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E27B44-7CC1-4698-898A-78F0413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E4DBC-6E3B-4036-A263-FB1F0FDC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07E0DB-2AC7-4DF8-A7E2-9A675E71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166FB-91F7-4941-8ED0-2317E8AE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6EC54-FD04-4B6C-9236-48D415E6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80A6B-7A98-436F-93E8-EEBAD684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A9E56-6D64-4E80-ACB9-2A21BCEF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BF7CF-2409-4C83-B53B-90C5E20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DC75-F371-4D5E-A4D2-B68BC70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FDB69-F5F3-4414-868B-7102908B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56517-604B-440E-913F-6AA9D263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838FD-9A0E-4DC7-BBAF-8AC28ED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036DA-B151-4D06-A66D-020C0AA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C88A9-BEA3-48AF-854E-CB31592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550A5-5F14-45D4-AB25-3BC7A5E1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05E01B-6EAD-40C1-862F-A7266C53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FC85C-4005-4660-9656-5F2C45BC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80F92-EDF5-47FD-9EAA-ACB2FDCC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34267-7A89-4B56-812C-85B359CF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4AE9-AA27-453A-BBC0-82F04D35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F3DB0-8C8A-468E-96F7-F0283E80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CF8AF-A760-4C01-BF2D-8B669A79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0B5D1-F4EE-403F-A957-7AC3F11A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AA5064-B7BA-4FC8-97D4-864F7E5C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3B8D5-9628-458B-A988-1C8FBF12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51CC3-146E-48A1-AB9D-6878F9B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6CE75-452A-422A-A929-0667648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823F3-5A41-4D00-ACD7-51118DE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A6C29-0464-4F45-9D5A-50D16C3D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BFC5D-ABC8-40FE-A456-FCE28944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3834-2304-462C-B38A-EE74DACB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CBA7E-A74E-4C71-A368-17856EDF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954D1-7A1F-4321-812C-2D8E3D01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384CA4-E668-4F9C-980A-90D9319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DD9A74-64CE-4F0D-92FB-037D4A5D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8CC17-038E-40A4-BDB0-1ED91F10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34AD2-3D7A-43E8-AFF7-1A50E919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FF2CB-17A5-49C3-8A60-904D10C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0D957-769F-4882-A60B-7C78C9E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31082-3DAD-4E19-9039-2D3750A1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AEE51-A862-42CD-8172-C9DF00A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C447-3BE9-4E81-84AA-1DEB2411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558E9A-E65F-48E5-8706-3A8CEA3A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6E932-8D15-4730-8F0D-F928412A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D5A4E-8D9F-4361-83B7-96AEC41B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A342-F987-4968-B384-AC7FF2C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BD34-4089-4CD0-839E-0A56AE8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D425-A85A-465F-B121-A4412677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6CF9-91C0-4430-A7B0-693B03E8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7CD-97BB-4E3E-9617-C55C312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09021-B770-464A-851F-07FC6A7A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F0AF-9291-4F9B-A823-945B963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BAF0-F452-4455-8248-49A383F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E12F-2D5F-40DE-803F-41033501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CD65-BB37-49DC-9C7E-EB4142D5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6A96-2312-43D9-B319-B4F5AD66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989A-0274-4437-A479-6F5365B3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7A66-0413-4FD1-A614-DF67B8E9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B700-1AEC-4B37-B614-2E05FD1A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1D4F6-573E-4082-B076-47219E0C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391-E56B-445C-BCCB-EDF6913E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29AE-9BE3-486F-8B5F-E984D709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BC35-9183-4D2B-AE9F-EF15DB0D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D267-6D84-41FE-B5B8-384ED65C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F243-378D-4943-8ED1-798653B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874D2-E2A7-42BB-B979-FB128157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4BD6-BE83-4E87-A719-C7443B4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48C2-3974-4CED-8664-6E4DFB7E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8024C-6D4F-4032-8BB4-67015687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4DDD-B9D5-43A7-90E7-02EEF191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4E971-BDE4-496D-B98E-322E1BB9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64D-2E1D-41C6-9864-B1E767D5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46219-A30B-404E-9C51-609BBEC5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EE5C-65DE-4EAF-AF71-B47EBF8F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297EF-76C3-446E-A80C-A06A0A07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0AAF-32AA-403A-A62E-4031B3E2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2F7C-6ED8-4B00-B670-3F53BFE8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3F0C5-5786-4A5A-A583-ABE0A9CE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A589-35C1-40DD-83D9-1F74DA73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81215-3047-48A6-BE88-E804A220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A886-1123-4701-85C9-735674D6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AAE2-542E-470E-B1AD-5B480758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A4E-9FD9-4F93-AE4C-7726AB50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EF0B-B28E-4828-AC2C-DF84A6CF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DCCE0-509E-4EB3-892D-A416540F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63F3-1E74-49D6-AA69-52A7C0C6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812A4-A0D7-41B7-B689-985D17FB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49B4-34A9-4DA4-B417-168897F9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04520-7495-4815-AC46-244CB043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C0A0-091A-4254-A5B8-E5C31E66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9689A-735E-4088-8121-EF3C9B4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4763A-6FC5-4144-9224-A9C3144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5819B-0557-4D0E-897E-6680BF17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A82-31CF-4409-B75F-21E4E054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2E86-5834-4C2D-9F0A-44452532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9F27D-3981-43D5-9D07-D4506D44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BAB2A-7853-4B48-94D1-24A65192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BA6D7-56F4-42B8-A06D-CD7551A1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3E932-89E3-4F11-AD98-06484A4C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BDE5A-679F-4E0F-A03E-D226F1D1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A4E8E-B507-4F32-B5EA-B4E62531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31370-7D9A-4D9F-AA81-1D576E98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D46C0-05D3-4110-88DC-11E45EF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A395-9172-43DE-82EE-C0AEBBF7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3E1-3704-4D9C-80DF-66E312D7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A23A-D944-40C4-B931-B64029E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26D3-8971-4735-A0CA-38B84346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F45F-6E9C-4562-BDA0-D6074850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77A2-53F8-4152-BD91-85DBB231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CE0F-E560-47E3-BB5C-AE58EF08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99A44-D8A6-4235-B7D5-CFEC6564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C2FF-A58A-4EC9-A67E-97DE68E9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AF1AB-57E3-439B-BE5F-0E612F43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0B528-4846-4109-80D6-247DBC07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B607D-39B4-48EB-89A6-40422E3A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231-E689-4A92-9A73-20B9D2E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A6EB6-B5D3-4E6B-8084-3D836470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55101-BD17-411A-91C3-66BA668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24BE0-170D-407B-B5CD-FE680DF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7C6C-2D19-4ABF-BAEE-D5A80EE8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CE10-7123-4779-A220-355DBAB6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C1B25-99B5-4BC9-AB8F-419BA40B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E13CC-D9E0-46AB-A73C-013A29D9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04AEE-9831-4181-8020-162CBFE0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3D454-0348-4CC2-95BE-C2C49188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4A754-3C75-41AF-A290-483A106A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326-5ED3-4248-B957-82F603AFEB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45F6-2366-4F80-B3DB-12F8372FB8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34AD-D54B-4FBD-B4B5-4E015247E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FB86-D695-4E16-B5A8-6BA71CB0F7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5280-BBA2-429E-B618-22E51E57B8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D93C-13CB-4C58-88CE-660DBAE90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30AC-AC6B-4A20-8274-FA3A3955A3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A68-22E0-4FA9-B6F1-FA0FBC452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5386-7D1D-4B4E-A705-B7F5B67C52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45B2-0253-49FD-A53A-045F6F8A24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54B-9083-45A6-87D3-C30204CDBF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C180-8F82-4256-8E26-9A3751EE8E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A56-1BCE-422E-A1A9-E29941617C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261-836A-4459-BEEE-92208D0C70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323E-C16A-41AF-8D40-2EDEBC7511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F0C4-4312-4D40-8A45-9A2C52E57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9F63-847B-414A-AF78-D42C46CC1F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6915-E449-41A6-913D-29EA3AFBE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8CCB-3B74-44E3-B070-8B2658434B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A41-89E7-4F95-88F3-00370EA5C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AB5C-A672-4E20-A0DC-9EFB2DBD27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A2F7-3ABA-4450-A026-A64EE1AD96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686A-702D-4CBE-8535-0E69103D4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A478-C8DC-43B1-A0B6-162ED465CF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91D4-21C4-468C-BDD8-B28519E70F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4D35-064A-4E9E-ABB4-58AD318AC3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CB28-C119-46B9-B8F6-36B3BFA55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2B74-585E-455F-A7F7-D3B195C496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F9A-CADD-45A1-A828-3B7CF57B74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244E-56F0-4298-96EE-C135DBDBB4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AF46-EA77-46CC-A46D-7D5A1BC29D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EED7-1759-456A-9D65-A6BA2F835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698C-47A9-461C-93C2-49FF39EA92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5C29-BCE6-4944-8F8E-4F8327E74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094C-DB59-4A00-95EA-A2DCFDB5D9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018-7F2B-4002-BDC4-772585100F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D11F-02AA-4EE7-A17F-1654A0EF0B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D8CF-6026-4CC5-9D61-BA1CEB3F24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569F-E5AE-44DD-A160-8288E8D4B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0829-74D3-4989-9B39-0B874B2370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2305080" y="2895480"/>
            <a:ext cx="4533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79873" descr=""/>
          <p:cNvPicPr/>
          <p:nvPr/>
        </p:nvPicPr>
        <p:blipFill>
          <a:blip r:embed="rId1"/>
          <a:stretch/>
        </p:blipFill>
        <p:spPr>
          <a:xfrm>
            <a:off x="504720" y="1014480"/>
            <a:ext cx="8134560" cy="4829040"/>
          </a:xfrm>
          <a:prstGeom prst="rect">
            <a:avLst/>
          </a:prstGeom>
          <a:ln w="0">
            <a:noFill/>
          </a:ln>
        </p:spPr>
      </p:pic>
      <p:sp>
        <p:nvSpPr>
          <p:cNvPr id="1055" name="矩形 79874"/>
          <p:cNvSpPr/>
          <p:nvPr/>
        </p:nvSpPr>
        <p:spPr>
          <a:xfrm>
            <a:off x="7812000" y="2997360"/>
            <a:ext cx="43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78849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877160" cy="151452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78850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77724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77825" descr=""/>
          <p:cNvPicPr/>
          <p:nvPr/>
        </p:nvPicPr>
        <p:blipFill>
          <a:blip r:embed="rId1"/>
          <a:stretch/>
        </p:blipFill>
        <p:spPr>
          <a:xfrm>
            <a:off x="471600" y="690480"/>
            <a:ext cx="8200800" cy="5477040"/>
          </a:xfrm>
          <a:prstGeom prst="rect">
            <a:avLst/>
          </a:prstGeom>
          <a:ln w="0">
            <a:noFill/>
          </a:ln>
        </p:spPr>
      </p:pic>
      <p:sp>
        <p:nvSpPr>
          <p:cNvPr id="1059" name="矩形 77826"/>
          <p:cNvSpPr/>
          <p:nvPr/>
        </p:nvSpPr>
        <p:spPr>
          <a:xfrm>
            <a:off x="5796000" y="126828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77827"/>
          <p:cNvSpPr/>
          <p:nvPr/>
        </p:nvSpPr>
        <p:spPr>
          <a:xfrm>
            <a:off x="5076720" y="2257560"/>
            <a:ext cx="7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76801" descr=""/>
          <p:cNvPicPr/>
          <p:nvPr/>
        </p:nvPicPr>
        <p:blipFill>
          <a:blip r:embed="rId1"/>
          <a:stretch/>
        </p:blipFill>
        <p:spPr>
          <a:xfrm>
            <a:off x="490680" y="2371680"/>
            <a:ext cx="8162640" cy="2114640"/>
          </a:xfrm>
          <a:prstGeom prst="rect">
            <a:avLst/>
          </a:prstGeom>
          <a:ln w="0">
            <a:noFill/>
          </a:ln>
        </p:spPr>
      </p:pic>
      <p:sp>
        <p:nvSpPr>
          <p:cNvPr id="1062" name="矩形 76802"/>
          <p:cNvSpPr/>
          <p:nvPr/>
        </p:nvSpPr>
        <p:spPr>
          <a:xfrm>
            <a:off x="1528920" y="3519360"/>
            <a:ext cx="10220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6803"/>
          <p:cNvSpPr/>
          <p:nvPr/>
        </p:nvSpPr>
        <p:spPr>
          <a:xfrm>
            <a:off x="6588000" y="3519360"/>
            <a:ext cx="1022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6804"/>
          <p:cNvSpPr/>
          <p:nvPr/>
        </p:nvSpPr>
        <p:spPr>
          <a:xfrm>
            <a:off x="6156360" y="4048200"/>
            <a:ext cx="14986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89089" descr=""/>
          <p:cNvPicPr/>
          <p:nvPr/>
        </p:nvPicPr>
        <p:blipFill>
          <a:blip r:embed="rId1"/>
          <a:stretch/>
        </p:blipFill>
        <p:spPr>
          <a:xfrm>
            <a:off x="523800" y="747720"/>
            <a:ext cx="8096400" cy="5362560"/>
          </a:xfrm>
          <a:prstGeom prst="rect">
            <a:avLst/>
          </a:prstGeom>
          <a:ln w="0">
            <a:noFill/>
          </a:ln>
        </p:spPr>
      </p:pic>
      <p:sp>
        <p:nvSpPr>
          <p:cNvPr id="1066" name="矩形 89090"/>
          <p:cNvSpPr/>
          <p:nvPr/>
        </p:nvSpPr>
        <p:spPr>
          <a:xfrm>
            <a:off x="7380360" y="2781360"/>
            <a:ext cx="79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89091"/>
          <p:cNvSpPr/>
          <p:nvPr/>
        </p:nvSpPr>
        <p:spPr>
          <a:xfrm>
            <a:off x="4356000" y="3284640"/>
            <a:ext cx="792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90113" descr=""/>
          <p:cNvPicPr/>
          <p:nvPr/>
        </p:nvPicPr>
        <p:blipFill>
          <a:blip r:embed="rId1"/>
          <a:stretch/>
        </p:blipFill>
        <p:spPr>
          <a:xfrm>
            <a:off x="452520" y="1343160"/>
            <a:ext cx="8238960" cy="4171680"/>
          </a:xfrm>
          <a:prstGeom prst="rect">
            <a:avLst/>
          </a:prstGeom>
          <a:ln w="0">
            <a:noFill/>
          </a:ln>
        </p:spPr>
      </p:pic>
      <p:sp>
        <p:nvSpPr>
          <p:cNvPr id="1069" name="矩形 90114"/>
          <p:cNvSpPr/>
          <p:nvPr/>
        </p:nvSpPr>
        <p:spPr>
          <a:xfrm>
            <a:off x="7812000" y="513864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91137" descr=""/>
          <p:cNvPicPr/>
          <p:nvPr/>
        </p:nvPicPr>
        <p:blipFill>
          <a:blip r:embed="rId1"/>
          <a:stretch/>
        </p:blipFill>
        <p:spPr>
          <a:xfrm>
            <a:off x="733320" y="814320"/>
            <a:ext cx="7677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086280" cy="7621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6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439120" cy="441000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7"/>
          <p:cNvSpPr/>
          <p:nvPr/>
        </p:nvSpPr>
        <p:spPr>
          <a:xfrm>
            <a:off x="3276720" y="2205000"/>
            <a:ext cx="50328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5435640" y="2637000"/>
            <a:ext cx="865080" cy="25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2484360" y="3016080"/>
            <a:ext cx="59868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6732720" y="3016080"/>
            <a:ext cx="50328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1979640" y="3429000"/>
            <a:ext cx="5763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5148360" y="3429000"/>
            <a:ext cx="11127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4284720" y="3851280"/>
            <a:ext cx="6429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3203640" y="5032440"/>
            <a:ext cx="5763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5"/>
          <p:cNvSpPr/>
          <p:nvPr/>
        </p:nvSpPr>
        <p:spPr>
          <a:xfrm>
            <a:off x="3851280" y="5445000"/>
            <a:ext cx="57636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6"/>
          <p:cNvSpPr/>
          <p:nvPr/>
        </p:nvSpPr>
        <p:spPr>
          <a:xfrm>
            <a:off x="2475000" y="5857920"/>
            <a:ext cx="57600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87041" descr=""/>
          <p:cNvPicPr/>
          <p:nvPr/>
        </p:nvPicPr>
        <p:blipFill>
          <a:blip r:embed="rId1"/>
          <a:stretch/>
        </p:blipFill>
        <p:spPr>
          <a:xfrm>
            <a:off x="343080" y="971640"/>
            <a:ext cx="8458200" cy="4914720"/>
          </a:xfrm>
          <a:prstGeom prst="rect">
            <a:avLst/>
          </a:prstGeom>
          <a:ln w="0">
            <a:noFill/>
          </a:ln>
        </p:spPr>
      </p:pic>
      <p:sp>
        <p:nvSpPr>
          <p:cNvPr id="1036" name="矩形 87042"/>
          <p:cNvSpPr/>
          <p:nvPr/>
        </p:nvSpPr>
        <p:spPr>
          <a:xfrm>
            <a:off x="6723000" y="4676760"/>
            <a:ext cx="87480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7043"/>
          <p:cNvSpPr/>
          <p:nvPr/>
        </p:nvSpPr>
        <p:spPr>
          <a:xfrm>
            <a:off x="2771640" y="508464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7044"/>
          <p:cNvSpPr/>
          <p:nvPr/>
        </p:nvSpPr>
        <p:spPr>
          <a:xfrm>
            <a:off x="4859280" y="508464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7045"/>
          <p:cNvSpPr/>
          <p:nvPr/>
        </p:nvSpPr>
        <p:spPr>
          <a:xfrm>
            <a:off x="7164360" y="5483160"/>
            <a:ext cx="576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6017" descr=""/>
          <p:cNvPicPr/>
          <p:nvPr/>
        </p:nvPicPr>
        <p:blipFill>
          <a:blip r:embed="rId1"/>
          <a:stretch/>
        </p:blipFill>
        <p:spPr>
          <a:xfrm>
            <a:off x="324000" y="2643120"/>
            <a:ext cx="8496000" cy="15717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86018"/>
          <p:cNvSpPr/>
          <p:nvPr/>
        </p:nvSpPr>
        <p:spPr>
          <a:xfrm>
            <a:off x="8101080" y="3068640"/>
            <a:ext cx="3650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84993" descr=""/>
          <p:cNvPicPr/>
          <p:nvPr/>
        </p:nvPicPr>
        <p:blipFill>
          <a:blip r:embed="rId1"/>
          <a:stretch/>
        </p:blipFill>
        <p:spPr>
          <a:xfrm>
            <a:off x="361800" y="1380960"/>
            <a:ext cx="8420400" cy="4096080"/>
          </a:xfrm>
          <a:prstGeom prst="rect">
            <a:avLst/>
          </a:prstGeom>
          <a:ln w="0">
            <a:noFill/>
          </a:ln>
        </p:spPr>
      </p:pic>
      <p:sp>
        <p:nvSpPr>
          <p:cNvPr id="1043" name="矩形 84994"/>
          <p:cNvSpPr/>
          <p:nvPr/>
        </p:nvSpPr>
        <p:spPr>
          <a:xfrm>
            <a:off x="1908000" y="2665440"/>
            <a:ext cx="3654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4995"/>
          <p:cNvSpPr/>
          <p:nvPr/>
        </p:nvSpPr>
        <p:spPr>
          <a:xfrm>
            <a:off x="1619280" y="3068640"/>
            <a:ext cx="2070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4996"/>
          <p:cNvSpPr/>
          <p:nvPr/>
        </p:nvSpPr>
        <p:spPr>
          <a:xfrm>
            <a:off x="8172360" y="3500280"/>
            <a:ext cx="36504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83969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72360" cy="5877000"/>
          </a:xfrm>
          <a:prstGeom prst="rect">
            <a:avLst/>
          </a:prstGeom>
          <a:ln w="0">
            <a:noFill/>
          </a:ln>
        </p:spPr>
      </p:pic>
      <p:sp>
        <p:nvSpPr>
          <p:cNvPr id="1047" name="矩形 83970"/>
          <p:cNvSpPr/>
          <p:nvPr/>
        </p:nvSpPr>
        <p:spPr>
          <a:xfrm>
            <a:off x="3497400" y="234936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82945" descr=""/>
          <p:cNvPicPr/>
          <p:nvPr/>
        </p:nvPicPr>
        <p:blipFill>
          <a:blip r:embed="rId1"/>
          <a:stretch/>
        </p:blipFill>
        <p:spPr>
          <a:xfrm>
            <a:off x="471600" y="1976400"/>
            <a:ext cx="8200800" cy="2905200"/>
          </a:xfrm>
          <a:prstGeom prst="rect">
            <a:avLst/>
          </a:prstGeom>
          <a:ln w="0">
            <a:noFill/>
          </a:ln>
        </p:spPr>
      </p:pic>
      <p:sp>
        <p:nvSpPr>
          <p:cNvPr id="1049" name="矩形 82946"/>
          <p:cNvSpPr/>
          <p:nvPr/>
        </p:nvSpPr>
        <p:spPr>
          <a:xfrm>
            <a:off x="4716360" y="256536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1921" descr=""/>
          <p:cNvPicPr/>
          <p:nvPr/>
        </p:nvPicPr>
        <p:blipFill>
          <a:blip r:embed="rId1"/>
          <a:stretch/>
        </p:blipFill>
        <p:spPr>
          <a:xfrm>
            <a:off x="504720" y="1033560"/>
            <a:ext cx="8134560" cy="47908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81922"/>
          <p:cNvSpPr/>
          <p:nvPr/>
        </p:nvSpPr>
        <p:spPr>
          <a:xfrm>
            <a:off x="6732720" y="2565360"/>
            <a:ext cx="426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80897" descr=""/>
          <p:cNvPicPr/>
          <p:nvPr/>
        </p:nvPicPr>
        <p:blipFill>
          <a:blip r:embed="rId1"/>
          <a:stretch/>
        </p:blipFill>
        <p:spPr>
          <a:xfrm>
            <a:off x="495360" y="1495440"/>
            <a:ext cx="8153280" cy="3867120"/>
          </a:xfrm>
          <a:prstGeom prst="rect">
            <a:avLst/>
          </a:prstGeom>
          <a:ln w="0">
            <a:noFill/>
          </a:ln>
        </p:spPr>
      </p:pic>
      <p:sp>
        <p:nvSpPr>
          <p:cNvPr id="1053" name="矩形 80898"/>
          <p:cNvSpPr/>
          <p:nvPr/>
        </p:nvSpPr>
        <p:spPr>
          <a:xfrm>
            <a:off x="4643280" y="4005360"/>
            <a:ext cx="43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4:11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